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66D-86F6-402E-B66E-AC23775E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59F-5E6C-4047-AF60-A6F1D618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D9BF-602D-49B7-B1E7-1DB170EB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8CEA-1479-47CB-B1F9-28401F61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1C04-9805-450E-9D38-361241BA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D46-0A87-414E-8110-A3E78D90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EF3C-7ED7-4F08-81D0-A212BB19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BDF-9FAF-40E4-999F-CF39218E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B887-0E2B-4504-AB79-C37B4624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636-F9BD-42DB-BA36-0F3D1C0A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A4A-1D8F-46E4-818A-41FBD0BF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6E7B-C99C-4B00-8EFA-49FC1E8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E4E4-FE92-4061-919F-D0520A0F3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74448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ормула П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зволит вам с необычайной легкостью находить площадь любого многоугольника на клетчатой бумаге с целочисленными верш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нно такие задания предлагают в В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Площадь многоугольника с целочисленными вершинами рав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количество целочисленных точек внутри многоугольника, а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ула Пика очень удобна когда сложно догадаться, как разбить фигуру на удобные многоугольники или дострои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43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50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55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58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61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3428640" y="2819520"/>
            <a:ext cx="1895040" cy="1044720"/>
            <a:chOff x="3428640" y="2819520"/>
            <a:chExt cx="1895040" cy="1044720"/>
          </a:xfrm>
        </p:grpSpPr>
        <p:sp>
          <p:nvSpPr>
            <p:cNvPr id="64" name=""/>
            <p:cNvSpPr/>
            <p:nvPr/>
          </p:nvSpPr>
          <p:spPr>
            <a:xfrm>
              <a:off x="4194000" y="3352680"/>
              <a:ext cx="406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58840" y="3090600"/>
              <a:ext cx="56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71760" y="337644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22840" y="310644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55920" y="2819520"/>
              <a:ext cx="230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8640" y="31050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22824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отрим, как применить формулу для вычисления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многоугольника с целочисленными вершинами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72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79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84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87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90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4267080" y="2590920"/>
            <a:ext cx="3733560" cy="3685320"/>
            <a:chOff x="4267080" y="2590920"/>
            <a:chExt cx="3733560" cy="3685320"/>
          </a:xfrm>
        </p:grpSpPr>
        <p:grpSp>
          <p:nvGrpSpPr>
            <p:cNvPr id="93" name=""/>
            <p:cNvGrpSpPr/>
            <p:nvPr/>
          </p:nvGrpSpPr>
          <p:grpSpPr>
            <a:xfrm>
              <a:off x="4267080" y="2590920"/>
              <a:ext cx="3733560" cy="3685320"/>
              <a:chOff x="4267080" y="2590920"/>
              <a:chExt cx="3733560" cy="3685320"/>
            </a:xfrm>
          </p:grpSpPr>
          <p:sp>
            <p:nvSpPr>
              <p:cNvPr id="94" name=""/>
              <p:cNvSpPr/>
              <p:nvPr/>
            </p:nvSpPr>
            <p:spPr>
              <a:xfrm>
                <a:off x="4267080" y="5746680"/>
                <a:ext cx="3731760" cy="216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267080" y="259092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267080" y="311616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36432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67080" y="41688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67080" y="46962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67080" y="522396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267080" y="627624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267080" y="2590920"/>
              <a:ext cx="3707280" cy="3646440"/>
              <a:chOff x="4267080" y="2590920"/>
              <a:chExt cx="3707280" cy="3646440"/>
            </a:xfrm>
          </p:grpSpPr>
          <p:sp>
            <p:nvSpPr>
              <p:cNvPr id="103" name=""/>
              <p:cNvSpPr/>
              <p:nvPr/>
            </p:nvSpPr>
            <p:spPr>
              <a:xfrm>
                <a:off x="47984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258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5720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8460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426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97436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04800" y="2600640"/>
                <a:ext cx="10440" cy="363672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67080" y="2600640"/>
                <a:ext cx="1800" cy="363348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"/>
          <p:cNvSpPr/>
          <p:nvPr/>
        </p:nvSpPr>
        <p:spPr>
          <a:xfrm>
            <a:off x="4799160" y="3117960"/>
            <a:ext cx="2647800" cy="2630520"/>
          </a:xfrm>
          <a:custGeom>
            <a:avLst/>
            <a:gdLst/>
            <a:ahLst/>
            <a:rect l="l" t="t" r="r" b="b"/>
            <a:pathLst>
              <a:path w="1668" h="1657">
                <a:moveTo>
                  <a:pt x="1326" y="0"/>
                </a:moveTo>
                <a:lnTo>
                  <a:pt x="0" y="658"/>
                </a:lnTo>
                <a:lnTo>
                  <a:pt x="664" y="1657"/>
                </a:lnTo>
                <a:lnTo>
                  <a:pt x="1668" y="663"/>
                </a:lnTo>
                <a:lnTo>
                  <a:pt x="1326" y="0"/>
                </a:lnTo>
                <a:close/>
              </a:path>
            </a:pathLst>
          </a:custGeom>
          <a:solidFill>
            <a:srgbClr val="ffff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41004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4095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6040" y="41004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3320" y="408132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0" y="35622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96040" y="35528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46054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96040" y="46101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1339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72200" y="46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4382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2760" y="354492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9600" y="407988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65760" y="566424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11880" y="515628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5400" y="462276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78560" y="410220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32440" y="304812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0481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8883600">
            <a:off x="6778440" y="3038040"/>
            <a:ext cx="260280" cy="155520"/>
          </a:xfrm>
          <a:prstGeom prst="rightArrow">
            <a:avLst>
              <a:gd name="adj1" fmla="val 50000"/>
              <a:gd name="adj2" fmla="val 4184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4920" y="3962520"/>
                <a:ext cx="14475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05120" y="4191120"/>
                <a:ext cx="1909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,5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43200" y="4876920"/>
                <a:ext cx="98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533520" y="5867280"/>
            <a:ext cx="3671640" cy="691920"/>
            <a:chOff x="533520" y="5867280"/>
            <a:chExt cx="3671640" cy="691920"/>
          </a:xfrm>
        </p:grpSpPr>
        <p:grpSp>
          <p:nvGrpSpPr>
            <p:cNvPr id="136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137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8520" y="591660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63440" y="58719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587052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-0.0382 0.02523 L -0.09636 0.06435 E">
                                      <p:cBhvr>
                                        <p:cTn id="8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88 0.06412 L -0.17709 0.11875 L -0.20973 0.13634 E">
                                      <p:cBhvr>
                                        <p:cTn id="9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21 0.13727 L -0.2191 0.14329 L -0.23108 0.15231 E">
                                      <p:cBhvr>
                                        <p:cTn id="105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8 0.15185 L -0.17917 0.25486 L -0.12657 0.36204 E">
                                      <p:cBhvr>
                                        <p:cTn id="11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56 0.36204 L -0.12188 0.36967 L -0.1158 0.38241 E">
                                      <p:cBhvr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500"/>
                            </p:stCondLst>
                            <p:childTnLst>
                              <p:par>
                                <p:cTn id="1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120000">
                                      <p:cBhvr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28 0.38264 L -0.08195 0.34004 L -0.07118 0.32454 L -0.07223 0.32338 E">
                                      <p:cBhvr>
                                        <p:cTn id="12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32407 L -0.03889 0.28264 L -0.01112 0.24745 E">
                                      <p:cBhvr>
                                        <p:cTn id="13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2 0.24745 L 0.02777 0.19375 L 0.0434 0.17407 E">
                                      <p:cBhvr>
                                        <p:cTn id="14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75 0.17477 L 0.05121 0.16366 L 0.0592 0.15278 E">
                                      <p:cBhvr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">
                                      <p:cBhvr>
                                        <p:cTn id="1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4 0.15393 L 0.02638 0.06782 L 0.00694 0.01967 E">
                                      <p:cBhvr>
                                        <p:cTn id="16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4267080" y="1447920"/>
            <a:ext cx="4647960" cy="4609800"/>
            <a:chOff x="4267080" y="1447920"/>
            <a:chExt cx="4647960" cy="4609800"/>
          </a:xfrm>
        </p:grpSpPr>
        <p:grpSp>
          <p:nvGrpSpPr>
            <p:cNvPr id="157" name=""/>
            <p:cNvGrpSpPr/>
            <p:nvPr/>
          </p:nvGrpSpPr>
          <p:grpSpPr>
            <a:xfrm>
              <a:off x="4267080" y="1447920"/>
              <a:ext cx="4631760" cy="4581000"/>
              <a:chOff x="4267080" y="1447920"/>
              <a:chExt cx="4631760" cy="4581000"/>
            </a:xfrm>
          </p:grpSpPr>
          <p:sp>
            <p:nvSpPr>
              <p:cNvPr id="158" name=""/>
              <p:cNvSpPr/>
              <p:nvPr/>
            </p:nvSpPr>
            <p:spPr>
              <a:xfrm>
                <a:off x="46882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058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270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446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834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046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57240" y="1459440"/>
                <a:ext cx="8640" cy="456516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267080" y="1459440"/>
                <a:ext cx="1080" cy="456120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6388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4776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8988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51040" y="1463400"/>
                <a:ext cx="8640" cy="456516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267080" y="1475280"/>
              <a:ext cx="4647960" cy="4582440"/>
              <a:chOff x="4267080" y="1475280"/>
              <a:chExt cx="4647960" cy="4582440"/>
            </a:xfrm>
          </p:grpSpPr>
          <p:sp>
            <p:nvSpPr>
              <p:cNvPr id="171" name=""/>
              <p:cNvSpPr/>
              <p:nvPr/>
            </p:nvSpPr>
            <p:spPr>
              <a:xfrm>
                <a:off x="4267080" y="5637600"/>
                <a:ext cx="4646160" cy="252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67080" y="313776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67080" y="355392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67080" y="397116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67080" y="43876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67080" y="48052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67080" y="522360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67080" y="605772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267080" y="14752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67080" y="189144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67080" y="230904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67080" y="272520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380880" y="242280"/>
            <a:ext cx="8382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185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192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197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200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203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5524560" y="1890720"/>
            <a:ext cx="2959200" cy="1677960"/>
          </a:xfrm>
          <a:custGeom>
            <a:avLst/>
            <a:gdLst/>
            <a:ahLst/>
            <a:rect l="l" t="t" r="r" b="b"/>
            <a:pathLst>
              <a:path w="1864" h="1057">
                <a:moveTo>
                  <a:pt x="1862" y="0"/>
                </a:moveTo>
                <a:lnTo>
                  <a:pt x="0" y="529"/>
                </a:lnTo>
                <a:lnTo>
                  <a:pt x="1864" y="1057"/>
                </a:lnTo>
                <a:lnTo>
                  <a:pt x="522" y="525"/>
                </a:lnTo>
                <a:lnTo>
                  <a:pt x="1862" y="0"/>
                </a:lnTo>
                <a:close/>
              </a:path>
            </a:pathLst>
          </a:custGeom>
          <a:solidFill>
            <a:srgbClr val="ffff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438280"/>
            <a:ext cx="79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3048120"/>
            <a:ext cx="7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 =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80880" y="3962520"/>
                <a:ext cx="1293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828800" y="4221000"/>
                <a:ext cx="1508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429000" y="4229280"/>
                <a:ext cx="585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533520" y="5867280"/>
            <a:ext cx="3671640" cy="690480"/>
            <a:chOff x="533520" y="5867280"/>
            <a:chExt cx="3671640" cy="690480"/>
          </a:xfrm>
        </p:grpSpPr>
        <p:grpSp>
          <p:nvGrpSpPr>
            <p:cNvPr id="212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213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28520" y="591660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63440" y="587196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62040" y="58705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905440" y="2666880"/>
            <a:ext cx="90720" cy="954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75520" y="2273400"/>
            <a:ext cx="90360" cy="950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3086280"/>
            <a:ext cx="90360" cy="950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486400" y="2666880"/>
            <a:ext cx="117360" cy="11772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407440" y="3498840"/>
            <a:ext cx="11736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307920" y="2673360"/>
            <a:ext cx="11772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458200" y="1828800"/>
            <a:ext cx="11736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9822000">
            <a:off x="8317800" y="1816200"/>
            <a:ext cx="260280" cy="155520"/>
          </a:xfrm>
          <a:prstGeom prst="rightArrow">
            <a:avLst>
              <a:gd name="adj1" fmla="val 50000"/>
              <a:gd name="adj2" fmla="val 4184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9259E-006 L -0.13715 0.05254 L -0.28854 0.10903 E">
                                      <p:cBhvr>
                                        <p:cTn id="23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854 0.10903 L -0.30104 0.11551 L -0.3184 0.12199 E">
                                      <p:cBhvr>
                                        <p:cTn id="242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880000">
                                      <p:cBhvr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771 0.12291 L -0.2191 0.15903 L -0.01979 0.23495 E">
                                      <p:cBhvr>
                                        <p:cTn id="24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5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23495 L -0.01076 0.23819 L 0.00278 0.24328 E">
                                      <p:cBhvr>
                                        <p:cTn id="258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020000">
                                      <p:cBhvr>
                                        <p:cTn id="2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24421 L -0.09965 0.18958 L -0.20938 0.1331 E">
                                      <p:cBhvr>
                                        <p:cTn id="26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6 0.1331 L -0.21563 0.12754 L -0.23021 0.12106 E">
                                      <p:cBhvr>
                                        <p:cTn id="274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800000">
                                      <p:cBhvr>
                                        <p:cTn id="2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52 0.12014 L -0.13854 0.07477 L -0.01198 0.00926 E">
                                      <p:cBhvr>
                                        <p:cTn id="28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3520" y="2282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многоугольника с целочисленными вершинами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242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249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254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257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260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4572000" y="2209680"/>
            <a:ext cx="3733560" cy="3685680"/>
            <a:chOff x="4572000" y="2209680"/>
            <a:chExt cx="3733560" cy="3685680"/>
          </a:xfrm>
        </p:grpSpPr>
        <p:grpSp>
          <p:nvGrpSpPr>
            <p:cNvPr id="263" name=""/>
            <p:cNvGrpSpPr/>
            <p:nvPr/>
          </p:nvGrpSpPr>
          <p:grpSpPr>
            <a:xfrm>
              <a:off x="4572000" y="2209680"/>
              <a:ext cx="3733560" cy="3685680"/>
              <a:chOff x="4572000" y="2209680"/>
              <a:chExt cx="3733560" cy="3685680"/>
            </a:xfrm>
          </p:grpSpPr>
          <p:sp>
            <p:nvSpPr>
              <p:cNvPr id="264" name=""/>
              <p:cNvSpPr/>
              <p:nvPr/>
            </p:nvSpPr>
            <p:spPr>
              <a:xfrm>
                <a:off x="4572000" y="5365800"/>
                <a:ext cx="3731760" cy="216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2000" y="220968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7349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32619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72000" y="37879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72000" y="43149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72000" y="48427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2000" y="58953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572000" y="2209680"/>
              <a:ext cx="3707280" cy="3646800"/>
              <a:chOff x="4572000" y="2209680"/>
              <a:chExt cx="3707280" cy="364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1033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07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6212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68952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475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27928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09720" y="2219400"/>
                <a:ext cx="10440" cy="363708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72000" y="2219400"/>
                <a:ext cx="1800" cy="363384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5092560" y="2733840"/>
            <a:ext cx="1600200" cy="1581120"/>
          </a:xfrm>
          <a:custGeom>
            <a:avLst/>
            <a:gdLst/>
            <a:ahLst/>
            <a:rect l="l" t="t" r="r" b="b"/>
            <a:pathLst>
              <a:path w="1008" h="996">
                <a:moveTo>
                  <a:pt x="1008" y="664"/>
                </a:moveTo>
                <a:lnTo>
                  <a:pt x="0" y="0"/>
                </a:lnTo>
                <a:lnTo>
                  <a:pt x="674" y="996"/>
                </a:lnTo>
                <a:lnTo>
                  <a:pt x="338" y="330"/>
                </a:lnTo>
                <a:lnTo>
                  <a:pt x="1008" y="664"/>
                </a:lnTo>
                <a:close/>
              </a:path>
            </a:pathLst>
          </a:custGeom>
          <a:solidFill>
            <a:srgbClr val="ffff00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24382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30481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80880" y="3962520"/>
                <a:ext cx="1293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784520" y="4237200"/>
                <a:ext cx="1015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127320" y="4237200"/>
                <a:ext cx="523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7" name=""/>
          <p:cNvGrpSpPr/>
          <p:nvPr/>
        </p:nvGrpSpPr>
        <p:grpSpPr>
          <a:xfrm>
            <a:off x="533520" y="5867280"/>
            <a:ext cx="3671640" cy="690480"/>
            <a:chOff x="533520" y="5867280"/>
            <a:chExt cx="3671640" cy="690480"/>
          </a:xfrm>
        </p:grpSpPr>
        <p:grpSp>
          <p:nvGrpSpPr>
            <p:cNvPr id="288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289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28520" y="591660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63440" y="587196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62040" y="58705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067360" y="269244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21440" y="426708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42000" y="374652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00880" y="3225960"/>
            <a:ext cx="7596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ивет</cp:lastModifiedBy>
  <dcterms:modified xsi:type="dcterms:W3CDTF">2012-09-08T18:28:1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